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21.jpeg" ContentType="image/jpeg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22.jpeg" ContentType="image/jpeg"/>
  <Override PartName="/ppt/media/image1.jpeg" ContentType="image/jpeg"/>
  <Override PartName="/ppt/media/image4.wmf" ContentType="image/x-wmf"/>
  <Override PartName="/ppt/media/image23.jpeg" ContentType="image/jpeg"/>
  <Override PartName="/ppt/media/image2.jpeg" ContentType="image/jpe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63B4-23D1-40DC-81CB-668677A4BD2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79FB-C769-4CF4-9ADC-8A2665CA2E50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C519-DCF1-46DD-9569-4EE8020DF2D0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AF2F-B128-49B4-8CAB-073368E21E5C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A2FA-3DDA-41EA-9E69-E1AB726A3D23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6EC3-45E2-400B-96DD-D44E76AD8AB8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2FAC-9E66-4335-B218-8357724897DD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9619-22A5-4AA9-8E97-8CE6B4BA158C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09F3-0DFB-4EF3-93CF-5632680E918E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FB86-147A-4D79-AD6E-2ADCB5F142D5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1EB4-ED23-40A1-AA6B-E00847EF7FBB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57C3-D4F7-4441-BD0A-584D028CF25A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6075-FF67-469E-9954-43A558397B01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A73D-477F-47CA-94F3-583E080023AE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0ECA-BC8A-4214-BA77-875C2B7385AB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0935-F44B-40C0-A93E-EFB6327EA9A1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5389-0E68-4546-B5A6-C4EDB78BB5A7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82D1-EB8A-43A7-9E48-9A55A453BF0B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F588-3700-4CB1-892A-8796372B3ECD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AB76-7DC3-4E4E-8FBE-C041F915D47B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D708-EF96-4B68-80E7-5797A5D3A7CB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090F-178D-4B74-B93B-378FBF13E384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8F97-37AA-4962-BD63-97C8E2216615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6C1A-32AA-4DCF-B51A-AB79765029FA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0081-2231-4E94-965B-3BC8B983EC41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6384-4A78-45EF-8649-03E833E34CCA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09F8-B6F1-4053-87AB-FFE73AC02F58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B0FB-9460-47A3-84EF-EA71FA1953C5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CBD8-F7EA-49B1-BFC9-4B13B0F0B5D5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2F42-189F-4BC8-8766-95569E5AB823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53DD-32D6-453F-AF56-B6639FCF4302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F88C-009B-46C6-9450-8B96CEC93CE0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AC4A-A483-40AA-823B-2BE5F032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F6F8-8C21-4696-8D76-3D9C1EFF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5119-CBD4-4E80-B2E9-A2E721934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F5CD-A635-4AF8-BA7B-1DD8FD23A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A506-B777-42BC-B34C-12ED75E29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18B4-B3B9-49FC-94E1-365B81BA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C6D5-B190-4E1B-A4B6-4AF6A06D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2842-35B5-4647-947D-FB5876CA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2BBA-A0BE-4694-AA41-6B264DFC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E5B3-0644-449B-B608-24DCA839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D0F3-0C69-4143-ADAD-6BA7DA8F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C643-A75E-4D63-8F02-70882CCD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727C-C6F0-4462-827C-DD9FF13A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CE2C-CA2F-48B2-BD81-191F61A1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47D9-9E69-4084-B10D-7C55173A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A382-1643-46E3-A377-499E27185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D146-1C5C-43D9-B78D-C6F6FE372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7429D-E384-4C47-8B1A-BBE8C22BA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E8AE4-03B2-489C-84D7-57F7A816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E7C38-77A6-4B04-894B-25D765DA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2BB90-B177-430B-A382-21AFBC66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9EDA4-0284-46EC-896B-CB6A43CD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E041-8DA8-46DC-9F94-F85542AE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B0AC3-EA6E-416D-89F2-47C60CCF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74930-28C3-45B2-8F5A-E0C81003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C4D12-1850-438F-9287-1EB9F222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92865-9307-4DEA-8065-FF44D9EE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3766C-41A7-44B3-983B-A9CD84CD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3B1AF-11B2-4FFD-8E9F-B57461266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3DB2D-80C4-4EB0-9353-8545C3D86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CED7-835A-4666-A23D-24D8B06D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47E5-4578-4ABF-98A0-9AE341A5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60FF-7E5B-4196-82C3-1D989BFB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7993-868B-44CB-923B-5BF19C1D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ED59-2AB8-44D5-A397-CCE762F2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9E8F-D3BB-4B5A-BCC4-030F4689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I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0975-6E8A-4D83-94FD-4256264FB36F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84C0-BEC3-4763-9144-7B90F6A02E1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6320" y="6248520"/>
            <a:ext cx="82368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9D46-1E9F-4C2B-858F-197D5EA7BA87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http://www.art-saloon.ru/pictures/set_65.jpg"/>
          <p:cNvPicPr/>
          <p:nvPr/>
        </p:nvPicPr>
        <p:blipFill>
          <a:blip r:embed="rId1"/>
          <a:stretch/>
        </p:blipFill>
        <p:spPr>
          <a:xfrm>
            <a:off x="0" y="2492280"/>
            <a:ext cx="1909800" cy="1871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http://www.art-saloon.ru/pictures/set_65.jpg"/>
          <p:cNvPicPr/>
          <p:nvPr/>
        </p:nvPicPr>
        <p:blipFill>
          <a:blip r:embed="rId2"/>
          <a:stretch/>
        </p:blipFill>
        <p:spPr>
          <a:xfrm>
            <a:off x="7378560" y="2527200"/>
            <a:ext cx="1765440" cy="1801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23"/>
          <p:cNvSpPr/>
          <p:nvPr/>
        </p:nvSpPr>
        <p:spPr>
          <a:xfrm>
            <a:off x="-125280" y="295200"/>
            <a:ext cx="93945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"/>
              </a:rPr>
              <a:t>CENTRO UNIVERSITÁRIO DAS FACULDADES ASSOCIADAS DE ENSINO – FA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São João da Boa Vista – SP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Retângulo 3"/>
          <p:cNvSpPr/>
          <p:nvPr/>
        </p:nvSpPr>
        <p:spPr>
          <a:xfrm>
            <a:off x="1258920" y="11970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ff"/>
                </a:solidFill>
                <a:latin typeface="Arial Rounded MT Bold"/>
                <a:ea typeface="Arial"/>
              </a:rPr>
              <a:t>Engenharia de Produção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826920" y="2565360"/>
            <a:ext cx="7488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3366"/>
                </a:solidFill>
                <a:latin typeface="Arial"/>
              </a:rPr>
              <a:t>Logística 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3366"/>
                </a:solidFill>
                <a:latin typeface="Arial"/>
              </a:rPr>
              <a:t>Integrada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8" name="Picture 9" descr="logo"/>
          <p:cNvPicPr/>
          <p:nvPr/>
        </p:nvPicPr>
        <p:blipFill>
          <a:blip r:embed="rId3"/>
          <a:stretch/>
        </p:blipFill>
        <p:spPr>
          <a:xfrm>
            <a:off x="6732720" y="6093000"/>
            <a:ext cx="2095200" cy="477720"/>
          </a:xfrm>
          <a:prstGeom prst="rect">
            <a:avLst/>
          </a:prstGeom>
          <a:ln w="0">
            <a:noFill/>
          </a:ln>
        </p:spPr>
      </p:pic>
      <p:sp>
        <p:nvSpPr>
          <p:cNvPr id="149" name="CaixaDeTexto 9"/>
          <p:cNvSpPr/>
          <p:nvPr/>
        </p:nvSpPr>
        <p:spPr>
          <a:xfrm>
            <a:off x="2733840" y="522936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Prof. Luciel Henrique de Oliveir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luciel@fae.b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ço Reservado para Rodapé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SI0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Espaço Reservado para Número de Slide 5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BB32-087A-49B1-B20F-C3A49C484C15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Tarefas Básic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81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tividades específicas essenciais para o desempenho logístico vão desde o recebimento de pedidos até a condução de um caminhão, abarcando até mesmo as atividades sob a responsabilidade do diretor de logístic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4" name="Picture 5" descr="j0299729"/>
          <p:cNvPicPr/>
          <p:nvPr/>
        </p:nvPicPr>
        <p:blipFill>
          <a:blip r:embed="rId1"/>
          <a:stretch/>
        </p:blipFill>
        <p:spPr>
          <a:xfrm>
            <a:off x="3376440" y="4653000"/>
            <a:ext cx="19051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Espaço Reservado para Rodapé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SI0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Espaço Reservado para Número de Slide 5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FEB1-8D78-4FBA-B593-026A79DF1DDF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Missão da Logíst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81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 logística de uma empresa é um esforço integrado com o objetivo de ajudar a criar valor para o cliente pelo menor custo total possíve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 logística existe para satisfazer às necessidades dos clientes, facilitando as operações relevantes de produção e marketin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O desafio é equilibrar as expectativas de serviços e os gastos de modo a alcançar os objetivos do negóci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9" name="Picture 5" descr="j0297401"/>
          <p:cNvPicPr/>
          <p:nvPr/>
        </p:nvPicPr>
        <p:blipFill>
          <a:blip r:embed="rId1"/>
          <a:stretch/>
        </p:blipFill>
        <p:spPr>
          <a:xfrm>
            <a:off x="6156360" y="208080"/>
            <a:ext cx="266364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ço Reservado para Rodapé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SI0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Espaço Reservado para Número de Slide 5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7E36-D5CC-4DF6-B25A-C707B48EE279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Serviç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O serviço logístico básico é medido em termos d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3366"/>
                </a:solidFill>
                <a:latin typeface="Arial"/>
              </a:rPr>
              <a:t>Disponibilidade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 – ter estoque para atender de maneira consistente às necessidades de materiais ou produtos do clien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3366"/>
                </a:solidFill>
                <a:latin typeface="Arial"/>
              </a:rPr>
              <a:t>desempenho operacional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 – ao tempo decorrido desde o recebimento de um pedido até a entrega  da respectiva mercador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3366"/>
                </a:solidFill>
                <a:latin typeface="Arial"/>
              </a:rPr>
              <a:t>confiabilidade de serviço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 – os atributos de qualidade da logíst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4" name="Picture 4" descr="j0299723"/>
          <p:cNvPicPr/>
          <p:nvPr/>
        </p:nvPicPr>
        <p:blipFill>
          <a:blip r:embed="rId1"/>
          <a:stretch/>
        </p:blipFill>
        <p:spPr>
          <a:xfrm>
            <a:off x="6372360" y="135000"/>
            <a:ext cx="22320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1"/>
          <p:cNvSpPr/>
          <p:nvPr/>
        </p:nvSpPr>
        <p:spPr>
          <a:xfrm>
            <a:off x="76320" y="6248520"/>
            <a:ext cx="8236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CB73-1516-486E-9082-DAC84B4015A1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66"/>
                </a:solidFill>
                <a:latin typeface="Arial"/>
              </a:rPr>
              <a:t>Integração das Operações Logístic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CaixaDeTexto 5"/>
          <p:cNvSpPr/>
          <p:nvPr/>
        </p:nvSpPr>
        <p:spPr>
          <a:xfrm>
            <a:off x="4944960" y="3141720"/>
            <a:ext cx="25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BOWERSOX &amp; CLOS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Cap.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Espaço Reservado para Rodapé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SI0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Espaço Reservado para Número de Slide 5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256E-FAAF-42B3-9BB3-88E7AF0F852D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Trabalho da Logíst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 competência logística é alcançada pela coordenação d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Um projeto de re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Informaçã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Transpor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stoq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rmazenagem, manuseio de materiais e embalag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Picture 4" descr="j0312402"/>
          <p:cNvPicPr/>
          <p:nvPr/>
        </p:nvPicPr>
        <p:blipFill>
          <a:blip r:embed="rId1"/>
          <a:stretch/>
        </p:blipFill>
        <p:spPr>
          <a:xfrm>
            <a:off x="6227640" y="3068640"/>
            <a:ext cx="181296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Espaço Reservado para Rodapé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SI0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Espaço Reservado para Número de Slide 5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8891-9A71-4A2A-B2A1-D22731177ADB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Projeto de Re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38080" y="2349000"/>
            <a:ext cx="83059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É uma responsabilidade básica da gerência logístic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O objetivo do projeto é determinar a quantidade e a localização de todos os tipos de instalações necessárias para a execução do processo logístic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Também é necessário determinar o tipo de estoque e o volume a ser armazenado em cada instalação, assim como é necessário vincular os pedidos de clientes aos locais de onde deve ser feita a expediçã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Deve considerar as diferenças geográfic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7" name="Picture 4" descr="j0250379"/>
          <p:cNvPicPr/>
          <p:nvPr/>
        </p:nvPicPr>
        <p:blipFill>
          <a:blip r:embed="rId1"/>
          <a:stretch/>
        </p:blipFill>
        <p:spPr>
          <a:xfrm>
            <a:off x="5435640" y="260280"/>
            <a:ext cx="3144960" cy="16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Espaço Reservado para Rodapé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SI0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Espaço Reservado para Número de Slide 5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AB75-DE4B-49BF-8740-247858E11395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Informaçã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 tecnologia atual é capaz de atender aos mais exigentes requisitos de informaçã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 vantagem do fluxo rápido de informação está diretamente relacionada com o equilíbrio dos procedimentos de trabalh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Quanto mais eficiente for o projeto do sistema logístico de uma empresa, mais precisas deverão ser as informaçõ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Sistemas bem elaborados, não têm excesso  de estoqu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2" name="Picture 4" descr="j0285778"/>
          <p:cNvPicPr/>
          <p:nvPr/>
        </p:nvPicPr>
        <p:blipFill>
          <a:blip r:embed="rId1"/>
          <a:stretch/>
        </p:blipFill>
        <p:spPr>
          <a:xfrm>
            <a:off x="6300720" y="260280"/>
            <a:ext cx="230364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Espaço Reservado para Rodapé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SI0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Espaço Reservado para Número de Slide 5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E4C6-A436-440D-BF48-6AA090F1AA8B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Transporte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s necessidades de transporte podem ser atendidas de três maneiras básica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Pode-se operar uma frota exclusiva de veícul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Pode-se fazer contratos com empresas de transpor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 empresa pode contratar os serviços de várias transportador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7" name="Picture 4" descr="bd07175_"/>
          <p:cNvPicPr/>
          <p:nvPr/>
        </p:nvPicPr>
        <p:blipFill>
          <a:blip r:embed="rId1"/>
          <a:stretch/>
        </p:blipFill>
        <p:spPr>
          <a:xfrm>
            <a:off x="6084720" y="260280"/>
            <a:ext cx="252108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Espaço Reservado para Rodapé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SI0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Espaço Reservado para Número de Slide 5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9947-94DC-46B4-968A-9AC60746786C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Transporte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Há três fatores fundamentais para o desempenho do transpor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usto de transpor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Velocidade do transpor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onsistên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2" name="Picture 5" descr="j0379081"/>
          <p:cNvPicPr/>
          <p:nvPr/>
        </p:nvPicPr>
        <p:blipFill>
          <a:blip r:embed="rId1"/>
          <a:stretch/>
        </p:blipFill>
        <p:spPr>
          <a:xfrm>
            <a:off x="5508720" y="3645000"/>
            <a:ext cx="331128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Espaço Reservado para Rodapé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SI0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Espaço Reservado para Número de Slide 5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DE05-1D9A-480C-8583-749EAFCF0FAD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Estoqu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s necessidades de estoque de uma empresa dependem da estrutura de rede e do nível desejado de serviço ao clien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Uma política de estoque adequada é baseada em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Segmentação de client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specificidade de produt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Integração do transpor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Necessidades relativas a operações baseadas no temp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Desempenho competitiv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7" name="Picture 4" descr="j0312412"/>
          <p:cNvPicPr/>
          <p:nvPr/>
        </p:nvPicPr>
        <p:blipFill>
          <a:blip r:embed="rId1"/>
          <a:stretch/>
        </p:blipFill>
        <p:spPr>
          <a:xfrm>
            <a:off x="6227640" y="476280"/>
            <a:ext cx="223200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ço Reservado para Rodapé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SI0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Espaço Reservado para Número de Slide 5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1C6E-B52A-4FA9-9341-DE7FD3A30F90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Logíst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24 horas por dia – 7 dias por semana – 52 semanas por a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Seu objetivo é tornar disponíveis produtos e serviços no local onde são necessários, no momento em que são desejad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xiste desde o início da civilizaçã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Picture 4" descr="j0345325"/>
          <p:cNvPicPr/>
          <p:nvPr/>
        </p:nvPicPr>
        <p:blipFill>
          <a:blip r:embed="rId1"/>
          <a:stretch/>
        </p:blipFill>
        <p:spPr>
          <a:xfrm>
            <a:off x="7020000" y="4653000"/>
            <a:ext cx="182412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Espaço Reservado para Número de Slide 5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8E32-37FA-4887-8117-EDF8C14731A0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66"/>
                </a:solidFill>
                <a:latin typeface="Arial"/>
              </a:rPr>
              <a:t>Armazenagem, Manuseio de Materiais e Embalage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26920" y="2361960"/>
            <a:ext cx="80661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Quatro das áreas funcionais da logística – projeto de rede, informação, transporte e estoque – podem ser concebidas em uma variedade de arranjos operacionais diferent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ssas quatro funções combinam-se para criar uma solução sistêmica para a logística integr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Espaço Reservado para Rodapé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SI0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Espaço Reservado para Número de Slide 5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86B1-A2CA-42B7-9380-02A1FEDC4E05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Logística Integra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5" name="Picture 8" descr="p"/>
          <p:cNvPicPr/>
          <p:nvPr/>
        </p:nvPicPr>
        <p:blipFill>
          <a:blip r:embed="rId1"/>
          <a:stretch/>
        </p:blipFill>
        <p:spPr>
          <a:xfrm>
            <a:off x="755640" y="2492280"/>
            <a:ext cx="770400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LOGISTICA INTEGRA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37720" y="2361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Fluxo de materia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DISTRIBUIÇÃO FIS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POIO Á MANUFATU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SUPRIMEN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Fluxo de informaçõ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FLUXOS DE PLANEJAMENTO E COORDENA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NECESSIDADES OPERACIONA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Espaço Reservado para Número de Slide 4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3816-7E79-4B46-AF55-DA59F0A7EC4C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LOGISTICA INTEGRA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37720" y="2361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Fluxo de informaçõ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FLUXOS DE PLANEJAMENTO E COORDENA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Objetivos estratégic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Limitações de capacida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Necessidades Logístic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Posicionamento de Estoqu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Necessidades de Fabricaçã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Necessidades de Supriment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Projeçõ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Espaço Reservado para Número de Slide 4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37F9-9509-495B-AC4C-43C1481DEF7F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LOGISTICA INTEGRA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837720" y="2361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Fluxo de informaçõ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NECESSIDADES OPERACIONA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Gerenciamento de pedid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Processamento de pedid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Operações de distribuiçã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Gerenciamento de estoqu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Transporte e expediçã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Suprimento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Espaço Reservado para Número de Slide 4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26A0-FDA5-40D0-82E0-BC531FBD2EEA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Espaço Reservado para Número de Slide 5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E49F-E9C3-4C1C-A60D-BCA653E831F2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66"/>
                </a:solidFill>
                <a:latin typeface="Arial"/>
              </a:rPr>
              <a:t>Necessidades de Informações Logística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8" name="Picture 4" descr="ap"/>
          <p:cNvPicPr/>
          <p:nvPr/>
        </p:nvPicPr>
        <p:blipFill>
          <a:blip r:embed="rId1"/>
          <a:stretch/>
        </p:blipFill>
        <p:spPr>
          <a:xfrm>
            <a:off x="971640" y="2276640"/>
            <a:ext cx="763272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Objetivos operaciona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RESPOSTA RÁPI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VARIÂNCIA MÍNI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STOQUE MÍNI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ONSOLIDAÇÃO E MOVIMENTAÇÃ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QUALIDA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POIO AO CICLO DE VI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Espaço Reservado para Rodapé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SI0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Espaço Reservado para Número de Slide 4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D016-E0EA-4949-9393-5244CE979A71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Espaço Reservado para Número de Slide 5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4759-F598-4589-A800-E09E67821621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02800" y="803160"/>
            <a:ext cx="7842600" cy="56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66"/>
                </a:solidFill>
                <a:latin typeface="Arial"/>
              </a:rPr>
              <a:t>Ciclos de Atividades Logística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6" name="Picture 4" descr="aa"/>
          <p:cNvPicPr/>
          <p:nvPr/>
        </p:nvPicPr>
        <p:blipFill>
          <a:blip r:embed="rId1"/>
          <a:stretch/>
        </p:blipFill>
        <p:spPr>
          <a:xfrm>
            <a:off x="1258920" y="1428840"/>
            <a:ext cx="676908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Barreiras à integração intern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strutura organizacion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Sistemas de mensuraçã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Propriedade do estoq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Tecnologia de informaçã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apacidade de Transferência de conheciment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Espaço Reservado para Rodapé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SI0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Espaço Reservado para Número de Slide 4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0EF3-8579-4D7F-A3CB-CC9F3D1C05E0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66"/>
                </a:solidFill>
                <a:latin typeface="Arial"/>
              </a:rPr>
              <a:t>CICLOS DE ATIVIDADE LOGÍSTIC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A DISTRIBUIÇÃO FÍS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O APOIO Á MANUFATU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O SUPRIMEN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Espaço Reservado para Rodapé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SI0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Espaço Reservado para Número de Slide 4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2862-2520-41CC-9924-BC890F4DDF8F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Espaço Reservado para Rodapé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SI0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Espaço Reservado para Número de Slide 5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038E-412D-4849-8364-B2999B4EA1B3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Logística envolv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Integração de informaçõ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Transpor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stoqu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rmazenamen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Manuseio de materia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mbalag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Sua importância: cresce o número de executivos bem sucedidos na áre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Picture 4" descr="j0312412"/>
          <p:cNvPicPr/>
          <p:nvPr/>
        </p:nvPicPr>
        <p:blipFill>
          <a:blip r:embed="rId1"/>
          <a:stretch/>
        </p:blipFill>
        <p:spPr>
          <a:xfrm>
            <a:off x="6084720" y="2924280"/>
            <a:ext cx="26085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Espaço Reservado para Número de Slide 5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832C-220C-4CC9-A5EF-7AE44A0FBBD2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825480" y="684360"/>
            <a:ext cx="7797240" cy="88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66"/>
                </a:solidFill>
                <a:latin typeface="Arial"/>
              </a:rPr>
              <a:t>Estrutura de uma rede logística flexível multifacetad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8" name="Picture 4" descr="aq"/>
          <p:cNvPicPr/>
          <p:nvPr/>
        </p:nvPicPr>
        <p:blipFill>
          <a:blip r:embed="rId1"/>
          <a:stretch/>
        </p:blipFill>
        <p:spPr>
          <a:xfrm>
            <a:off x="1265400" y="1614600"/>
            <a:ext cx="6835680" cy="46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ço Reservado para Número de Slide 5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B976-D575-40C9-A2B2-42351122C382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825840" y="825840"/>
            <a:ext cx="7796520" cy="88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66"/>
                </a:solidFill>
                <a:latin typeface="Arial"/>
              </a:rPr>
              <a:t>Atividades do ciclo básico de atividades da distribuição físic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2" name="Picture 4" descr="aw"/>
          <p:cNvPicPr/>
          <p:nvPr/>
        </p:nvPicPr>
        <p:blipFill>
          <a:blip r:embed="rId1"/>
          <a:stretch/>
        </p:blipFill>
        <p:spPr>
          <a:xfrm>
            <a:off x="755640" y="2238480"/>
            <a:ext cx="784872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ço Reservado para Rodapé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SI0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Espaço Reservado para Número de Slide 5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0B4C-26B3-4141-86E9-03D0FD6394A4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66"/>
                </a:solidFill>
                <a:latin typeface="Arial"/>
              </a:rPr>
              <a:t>Logística</a:t>
            </a:r>
            <a:br>
              <a:rPr sz="3200"/>
            </a:br>
            <a:r>
              <a:rPr b="1" lang="pt-BR" sz="3200" spc="-1" strike="noStrike">
                <a:solidFill>
                  <a:srgbClr val="006666"/>
                </a:solidFill>
                <a:latin typeface="Arial"/>
              </a:rPr>
              <a:t>Seu desafio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Tornar os resultados combinados da integração interna e externa numa das competências centrais da empre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 Logística agrega valor quando o estoque é corretamente posicionado para facilitar as vend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Picture 4" descr="j0312404"/>
          <p:cNvPicPr/>
          <p:nvPr/>
        </p:nvPicPr>
        <p:blipFill>
          <a:blip r:embed="rId1"/>
          <a:stretch/>
        </p:blipFill>
        <p:spPr>
          <a:xfrm>
            <a:off x="4932360" y="765000"/>
            <a:ext cx="295272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ço Reservado para Rodapé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SI0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Espaço Reservado para Número de Slide 5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2CD0-F681-44A0-9151-5E1DB2E4B61F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66"/>
                </a:solidFill>
                <a:latin typeface="Arial"/>
              </a:rPr>
              <a:t>Logística</a:t>
            </a:r>
            <a:br>
              <a:rPr sz="3200"/>
            </a:br>
            <a:r>
              <a:rPr b="1" lang="pt-BR" sz="3200" spc="-1" strike="noStrike">
                <a:solidFill>
                  <a:srgbClr val="006666"/>
                </a:solidFill>
                <a:latin typeface="Arial"/>
              </a:rPr>
              <a:t>Seu interesse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ompreender como certas empresas utilizam sua competência logística para obterem vantagem competitiv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mpresas líderes possuem, sistemas de informação capazes de monitorar seu desempenho logístico em tempo real, o que lhes possibilita identificar possíveis falhas operacionais e adotar providências corretivas antes da ocorrência de falhas no serviço aos clien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Picture 4" descr="j0312402"/>
          <p:cNvPicPr/>
          <p:nvPr/>
        </p:nvPicPr>
        <p:blipFill>
          <a:blip r:embed="rId1"/>
          <a:stretch/>
        </p:blipFill>
        <p:spPr>
          <a:xfrm>
            <a:off x="6732720" y="404640"/>
            <a:ext cx="181296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ço Reservado para Rodapé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SI0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Espaço Reservado para Número de Slide 5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A3A8-9F3D-4947-A25D-B51F1017FF2A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Gerenciamento Logístic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Inclui o projeto e a administração de sistemas para controlar o fluxo de materiais,      os estoques em processo e os produtos acabados com o objetivo de fortalecer a estratégia das unidades de negócios da empres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O objetivo central da logística é atingir um nível desejado de serviço ao cliente pelo menor custo total possí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Picture 5" descr="j0312398"/>
          <p:cNvPicPr/>
          <p:nvPr/>
        </p:nvPicPr>
        <p:blipFill>
          <a:blip r:embed="rId1"/>
          <a:stretch/>
        </p:blipFill>
        <p:spPr>
          <a:xfrm>
            <a:off x="7164360" y="476280"/>
            <a:ext cx="166212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ço Reservado para Rodapé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SI0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Espaço Reservado para Número de Slide 5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8561-EAE1-40A9-92E0-7F37FBA0C1B7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Competência Logística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000" y="2362320"/>
            <a:ext cx="867564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É desenvolver uma estrutura analítica integrada que defina e relacione conceitos-chav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s pessoas ligadas ao trabalho quotidiano de logística possuam entendimento básico do modo como suas funções específicas se encaixam no tod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la decorre de uma avaliação relativa da capacitação de uma empresa para fornecer ao cliente um serviço competitivamente superior ao menor custo total possíve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9" name="Picture 4" descr="j0299741"/>
          <p:cNvPicPr/>
          <p:nvPr/>
        </p:nvPicPr>
        <p:blipFill>
          <a:blip r:embed="rId1"/>
          <a:stretch/>
        </p:blipFill>
        <p:spPr>
          <a:xfrm>
            <a:off x="6856560" y="333360"/>
            <a:ext cx="1665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ço Reservado para Rodapé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SI0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Espaço Reservado para Número de Slide 5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094B-C485-4BCD-A154-59B368691320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Competência Logística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26920" y="2362320"/>
            <a:ext cx="817272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s expectativas ligadas à competência logística dependem diretamente do posicionamento estratégico da empres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Todas as empresas devem executar atividades logísticas para atingir seus objetivos empresariais básic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Quando a logística se torna parte fundamental da estratégia empresarial, ela deve ser administrada como uma competência centr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4" name="Picture 5" descr="j0299739"/>
          <p:cNvPicPr/>
          <p:nvPr/>
        </p:nvPicPr>
        <p:blipFill>
          <a:blip r:embed="rId1"/>
          <a:stretch/>
        </p:blipFill>
        <p:spPr>
          <a:xfrm>
            <a:off x="6659640" y="404640"/>
            <a:ext cx="2179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ço Reservado para Rodapé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SI0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Espaço Reservado para Número de Slide 5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1373-E8D5-4413-8CB5-679C477F32CD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Hierarquia da Integração Logíst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Processos universalmente adotados e posicionamento estratégic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Criação de valor para o clien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Planejament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Contro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Continuida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ompetênci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iclo de atividad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Fun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Trabalho básic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9" name="Picture 4" descr="j0250194"/>
          <p:cNvPicPr/>
          <p:nvPr/>
        </p:nvPicPr>
        <p:blipFill>
          <a:blip r:embed="rId1"/>
          <a:stretch/>
        </p:blipFill>
        <p:spPr>
          <a:xfrm>
            <a:off x="5796000" y="3500280"/>
            <a:ext cx="26924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17:08:19Z</dcterms:created>
  <dc:creator>profccsa</dc:creator>
  <dc:description/>
  <dc:language>en-US</dc:language>
  <cp:lastModifiedBy>LUCIEL</cp:lastModifiedBy>
  <dcterms:modified xsi:type="dcterms:W3CDTF">2012-08-10T21:57:38Z</dcterms:modified>
  <cp:revision>20</cp:revision>
  <dc:subject/>
  <dc:title>Logística</dc:title>
</cp:coreProperties>
</file>